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171-BC5E-45DD-813C-EA60E404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904-DBCD-4830-8318-D77D5CE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EF4-F24B-411C-AF40-A5DE30CB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AFB-C42B-4028-A682-A12A0BB9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254-BE97-45FE-9CD0-07B876D3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C5B-7C9B-4275-AA6F-5E279CC3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B33-7D26-4B91-A601-661CFF9B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AD0-8520-4A06-90AD-9965A89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D61-B8F1-4B6F-9741-EB89D87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4D9-8DA4-49EC-8C69-4A2EAAD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4C9-AEA7-4984-8C6E-61922147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A89-0F27-4B1F-B5C3-61E106B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3C1-B4C8-4187-AEC9-1D0284807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Но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бавочной линейк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» сидит, как на скамей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8" descr="До - копия.jpg"/>
          <p:cNvPicPr/>
          <p:nvPr/>
        </p:nvPicPr>
        <p:blipFill>
          <a:blip r:embed="rId1"/>
          <a:stretch/>
        </p:blipFill>
        <p:spPr>
          <a:xfrm>
            <a:off x="826920" y="1557360"/>
            <a:ext cx="781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 всех под нотоносц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лилась нота «Ре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ычит на всех серди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Рексик в кон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До, ре.jpg"/>
          <p:cNvPicPr/>
          <p:nvPr/>
        </p:nvPicPr>
        <p:blipFill>
          <a:blip r:embed="rId1"/>
          <a:stretch/>
        </p:blipFill>
        <p:spPr>
          <a:xfrm>
            <a:off x="900000" y="2205000"/>
            <a:ext cx="7891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перв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Ми» живё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о улыбается. Песенки 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До, ре, ми - копия.jpg"/>
          <p:cNvPicPr/>
          <p:nvPr/>
        </p:nvPicPr>
        <p:blipFill>
          <a:blip r:embed="rId1"/>
          <a:stretch/>
        </p:blipFill>
        <p:spPr>
          <a:xfrm>
            <a:off x="900000" y="2421000"/>
            <a:ext cx="77612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До, Ре, 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До, ре, ми - цветн. - копия.jpg"/>
          <p:cNvPicPr/>
          <p:nvPr/>
        </p:nvPicPr>
        <p:blipFill>
          <a:blip r:embed="rId1"/>
          <a:stretch/>
        </p:blipFill>
        <p:spPr>
          <a:xfrm>
            <a:off x="900000" y="2048040"/>
            <a:ext cx="7704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7:47:17Z</dcterms:created>
  <dc:creator>Admin</dc:creator>
  <dc:description/>
  <dc:language>en-US</dc:language>
  <cp:lastModifiedBy>Анна</cp:lastModifiedBy>
  <dcterms:modified xsi:type="dcterms:W3CDTF">2013-06-01T19:21:04Z</dcterms:modified>
  <cp:revision>12</cp:revision>
  <dc:subject/>
  <dc:title>Слайд 1</dc:title>
</cp:coreProperties>
</file>